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3F6-D814-4708-89ED-05B2F2C0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19A-5820-4F4A-94AC-33D8484C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01B-1AB1-4988-BFB1-0D64C0B8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343-A3E6-44BE-A0BA-BB86F571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202-97B8-4765-BD76-07FD78B9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9E0-F916-4611-B955-6C6A9726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C30-8FF5-48F4-A5E3-BD94B9C8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FE5-4398-4DF9-88E8-460557B4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ABB-2C94-4354-96F9-E3F06021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047-0A6C-419E-9EDA-EE9031D3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2C9-20E0-4621-A0EC-2E729D26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055-19EB-485F-9021-42D3C4AB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C85A-DE0A-499F-AE04-9ED218838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248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Projet par: Ioana Co. cls. a IX-a B.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553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Desserts (mousse au chocolat )</a:t>
            </a:r>
            <a:r>
              <a:rPr b="0" lang="fr-FR" sz="30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3000"/>
            </a:br>
            <a:r>
              <a:rPr b="0" lang="fr-FR" sz="3000" spc="-1" strike="noStrike">
                <a:solidFill>
                  <a:srgbClr val="800000"/>
                </a:solidFill>
                <a:latin typeface="Arial"/>
              </a:rPr>
              <a:t>Ingrédients: chocolat 700 Gr., 2 oeufs, sucre vanillé, 200 g crème, un petit verre de Cognac ou liqueur, </a:t>
            </a: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noisettes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43434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i pour votre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able des matiè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arcut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romages franç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ois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es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27432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harcuterie</a:t>
            </a:r>
            <a:br>
              <a:rPr sz="4000"/>
            </a:br>
            <a:r>
              <a:rPr b="0" lang="fr-FR" sz="3000" spc="-1" strike="noStrike">
                <a:solidFill>
                  <a:srgbClr val="800000"/>
                </a:solidFill>
                <a:latin typeface="Arial"/>
              </a:rPr>
              <a:t>L'une des spécialités de France, connue dans le monde entier est « fois gras ».Il est rare, parce qu'il se prépare très compliqué mais très savoureu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88394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en-US" sz="3100" spc="-1" strike="noStrike">
                <a:solidFill>
                  <a:srgbClr val="800000"/>
                </a:solidFill>
                <a:latin typeface="Arial"/>
              </a:rPr>
              <a:t>À l'origine de fromage. </a:t>
            </a:r>
            <a:r>
              <a:rPr b="0" lang="fr-FR" sz="3100" spc="-1" strike="noStrike">
                <a:solidFill>
                  <a:srgbClr val="800000"/>
                </a:solidFill>
                <a:latin typeface="Arial"/>
              </a:rPr>
              <a:t>En France, actuellement il y a 56 différentes variétés de fromage.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74640"/>
            <a:ext cx="77724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Moule de fromage, bleu-vert. </a:t>
            </a:r>
            <a:r>
              <a:rPr b="0" lang="fr-FR" sz="3000" spc="-1" strike="noStrike">
                <a:solidFill>
                  <a:srgbClr val="800000"/>
                </a:solidFill>
                <a:latin typeface="Arial"/>
              </a:rPr>
              <a:t>Considéré comme un véritable trésor national, le fromage Roquefort est connu depuis plus de 2000 ans</a:t>
            </a:r>
            <a:r>
              <a:rPr b="0" lang="fr-FR" sz="4000" spc="-1" strike="noStrike">
                <a:solidFill>
                  <a:srgbClr val="8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Roquefort"/>
          <p:cNvPicPr/>
          <p:nvPr/>
        </p:nvPicPr>
        <p:blipFill>
          <a:blip r:embed="rId1"/>
          <a:stretch/>
        </p:blipFill>
        <p:spPr>
          <a:xfrm>
            <a:off x="1676520" y="1905120"/>
            <a:ext cx="62481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fr-FR" sz="3000" spc="-1" strike="noStrike">
                <a:solidFill>
                  <a:srgbClr val="800000"/>
                </a:solidFill>
                <a:latin typeface="Arial"/>
              </a:rPr>
              <a:t>Fromages à moisissure blanche, camembert. Un de plus populaire sortes de fromage, Camembert est primitif en Normandie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Camembert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00"/>
                </a:solidFill>
                <a:latin typeface="Arial"/>
              </a:rPr>
              <a:t>Fromages à moisissure blanche,brie. Au XIXe siècle, était considéré comme le fromage fin en Europe. Toujours servir les fromages avec du v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Brie de Meaux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0000"/>
                </a:solidFill>
                <a:latin typeface="Arial"/>
              </a:rPr>
              <a:t>Un vin de qualité est un vin frança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500" spc="-1" strike="noStrike">
                <a:solidFill>
                  <a:srgbClr val="800000"/>
                </a:solidFill>
                <a:latin typeface="Arial"/>
              </a:rPr>
              <a:t>Desserts (crêpes) </a:t>
            </a:r>
            <a:br>
              <a:rPr sz="2500"/>
            </a:br>
            <a:r>
              <a:rPr b="0" lang="en-US" sz="2500" spc="-1" strike="noStrike">
                <a:solidFill>
                  <a:srgbClr val="800000"/>
                </a:solidFill>
                <a:latin typeface="Arial"/>
              </a:rPr>
              <a:t>Ingrédients: la farine,  les oeufs, l’ huile, l'eau minérale, du sucre, un peu du lait, le sel. Mode de préparation: Dans un grand bol,nous melanjons les oeufs et la farine.Nous ajouter le lait et l’eau tous les deux. Apres la sel et le beurre et nous melanjons. Poele chaude a feu moyen, nous avons ensuite le beurre. Chaque cuire crepes prendre un couple de minutes jusqu’a ce que brun claire. Savoir chaud avec nutella ou les banan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3124080" cy="2845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3657600"/>
            <a:ext cx="39625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0:06:35Z</dcterms:created>
  <dc:creator>ioana</dc:creator>
  <dc:description/>
  <dc:language>en-US</dc:language>
  <cp:lastModifiedBy>ioana</cp:lastModifiedBy>
  <dcterms:modified xsi:type="dcterms:W3CDTF">2012-05-06T19:45:23Z</dcterms:modified>
  <cp:revision>7</cp:revision>
  <dc:subject/>
  <dc:title>Slide 1</dc:title>
</cp:coreProperties>
</file>